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953-7FBD-4389-B0E8-01FB6B3C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79E-4098-42D5-93DD-462CFEF4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300-F418-4B27-A545-6EF1731A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D89-CCF1-4E6D-8531-CB027C79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D93-61D4-4612-8DC9-B858DEAB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717-0176-4738-A641-7CBA26E4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BBC-8050-43B6-9FC6-19569161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F60-9DA3-4E05-9B5C-6B97E7D1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8AB-3367-4F38-AC97-B10AD026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5B7-6F7C-45B4-8BEE-5A48141F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1AE-91A3-4CC0-BBAE-993ACE69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43A-CF58-4195-BBA2-5296932E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DF57-C6AD-42EF-B182-8E70DE8C2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oat_of_arms_of_Liberia.pn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earch.live.com/images/results.aspx?q=map+of+liberia&amp;form=IIRE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ber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achel 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90280" y="316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liberia_flag.jpg"/>
          <p:cNvPicPr/>
          <p:nvPr/>
        </p:nvPicPr>
        <p:blipFill>
          <a:blip r:embed="rId2"/>
          <a:stretch/>
        </p:blipFill>
        <p:spPr>
          <a:xfrm>
            <a:off x="3886200" y="4572000"/>
            <a:ext cx="1523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West Coast of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dered by Sierra Leone, Guinea, Ivory Coast, and the Atlan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ly the Republic of L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Liberia - Country Profile - Republic of Libe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46"/>
            </a:gs>
            <a:gs pos="50000">
              <a:srgbClr val="cc0099"/>
            </a:gs>
            <a:gs pos="100000">
              <a:srgbClr val="5e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47, the colony of freed slaves declared independence and founded the Republic of Lib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d as a colony in 1822 by freed slaves from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989 to 2005 Liberia was in a state of flux, witnessing two civil wars, the First Liberian Civil War (1989–1996) and the Second Liberian Civil War (1999–200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Individ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Johnson-Sirleaf is determined to become Liberia's president and to be the first woman to be elected as head of state i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ate 1989, a civil war began the Americo-Liberian named Charles Taylor with the backing of neighboring countries such as Burkina Faso and Cote d'Ivoire entered Nimba County with around 100 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gricultural products include goats, pigs, cattle and rice. Fish are raised on inland farms and caught along the co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Liberian economy depended heavily on iron ore and rubber exports, foreign direct investment, as well as the export of its other natural resources, such as timb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5e"/>
            </a:gs>
            <a:gs pos="50000">
              <a:srgbClr val="6600cc"/>
            </a:gs>
            <a:gs pos="100000">
              <a:srgbClr val="2f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and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ia has a long history in textile arts and qui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stimated that as much as 40 percent of the population of Liberia practices either Christianity or Christianity combined with elements of traditional indigenous religious belief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ia’s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09:27Z</dcterms:created>
  <dc:creator>rachelwilson</dc:creator>
  <dc:description/>
  <dc:language>en-US</dc:language>
  <cp:lastModifiedBy>LCS_user</cp:lastModifiedBy>
  <dcterms:modified xsi:type="dcterms:W3CDTF">2008-10-31T12:40:05Z</dcterms:modified>
  <cp:revision>3</cp:revision>
  <dc:subject/>
  <dc:title>Liberia</dc:title>
</cp:coreProperties>
</file>